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56F-A400-46F5-B955-EBD7E540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BEA-D760-43FB-9C7D-D893C8DF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D91-B95D-416C-BE86-AFD0F6CC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544-AE0A-4FB0-978D-7251FB94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66D9-79F1-4781-88C4-0FC61381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FB5C-11E6-4768-A3DE-B9C6E665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AD1A-495A-4BBE-B670-0A1F3641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D421-E8BC-4DAE-A4A1-B17B4573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820E-2C63-403E-9AAC-2C689311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2075-EABF-428E-ACB1-FFE05C35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3A84-32A8-41DC-A4E6-655E65C1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163-356B-42D8-8018-F4893314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D354-7C9A-4270-B8D4-B7693405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43BD-62CD-4A22-A50E-FC4A3382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6DDE-ABC4-47DC-AB5A-67A31ED8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D98B-17F9-45F7-B530-2D6DD908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D047-6852-4DA9-A4EC-25CFA020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772-BD09-4D26-AB9C-3DB175F1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B20-DDA7-40F1-96D3-F15E9F35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355-8F05-453B-9B5A-966FF98D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039-7FC8-4D5C-878E-561D9581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983-03AB-4A47-BF49-4529C9A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F4A-24D1-4F40-9A7D-0C3ABA9E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718-35AE-409D-AF2C-A879E83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5BFC-4AEA-480A-81AA-4A8EA1FA12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1203-5F99-4CBD-B7B0-9EA02CFBC6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rldtravels.com/travelguide/countrie" TargetMode="External"/><Relationship Id="rId2" Type="http://schemas.openxmlformats.org/officeDocument/2006/relationships/hyperlink" Target="http://looklex.com/e.o/saudi_arabia.economy.htms/saudi+arabia/climate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Saudi Arabia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Jake Wire and Shannon Richard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worldtravels.com/travelguide/countri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looklex.com/e.o/saudi_arabia.economy.htms/saudi+arabia/clim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udi Arabian 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5% dese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untains run parallel to the Red Se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ountry is also wealthy with oi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23920" y="1828800"/>
            <a:ext cx="4000680" cy="4038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2971800" cy="2068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57800" y="1523880"/>
            <a:ext cx="2971800" cy="237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2971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ural Resourc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audi Arabia has 25% of the world’s proven oil reserv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old mining is also large in Saudi Arabia and began over 5,000 years ag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6480" y="1828800"/>
            <a:ext cx="4000320" cy="40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381024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3886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mate and Vege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mmer’s can reach up to 113 degrees fahrenheit and can reach temperatures below freezing at nigh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narchy based on Islam until 1992 when it changed to a royal famil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aded by the King who also the commander in chief of the milit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ing has a cabinet of 22 memb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rmer allies to the U.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 and Current 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the birth place of Isl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1990 they joined the coalition that opposed Iraq’s annexation of Kuwa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argest exporter in the worl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come relies heavily on o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port surplus more than 10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rong Production of natural gas as we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abic is the official langu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jor religion is Musli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ress conservative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oyal Capital Riyad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Najd, a stony plateau in the center of Saudi Arab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a, kingdom mostly inhabited by the Shia minority of the are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6480" y="1828800"/>
            <a:ext cx="4000320" cy="403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33920" cy="224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800600" y="4114800"/>
            <a:ext cx="38098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33:32Z</dcterms:created>
  <dc:creator>jacobmwire</dc:creator>
  <dc:description/>
  <dc:language>en-US</dc:language>
  <cp:lastModifiedBy>jacobmwire</cp:lastModifiedBy>
  <dcterms:modified xsi:type="dcterms:W3CDTF">2009-02-19T17:15:58Z</dcterms:modified>
  <cp:revision>6</cp:revision>
  <dc:subject/>
  <dc:title>Slide 1</dc:title>
</cp:coreProperties>
</file>